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9F1-DB51-4CAC-BEC5-EAADC3BC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D2E-CFF6-4DCA-98B7-F5680174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DBF-DF73-4222-B571-8890D4EC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D81-81A3-4B19-A945-B044F8EB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1B61-3BDF-4051-840F-B15C8850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A293-400B-4124-9464-5C5EADA9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1FCD-8753-4E9F-A89D-9D4AC209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7D3D-C125-446F-87D1-2F3DEF5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3574-3ABC-4266-BA9C-7DBF8726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E7B6-66AB-4C31-99A5-612B815A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8AEA-2014-4405-AD33-713618F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C43-37C4-45CD-8342-CEB8ACF8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B1E5-24E9-484D-95A9-7D6463DC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0932-026A-4CCF-95A3-E8BA210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6C7D-CBE4-4BBF-AF42-4DAA5C57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33B7-80E6-492E-BD87-2BA252F9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475B-ED4F-4F09-8CB9-80CFAAC2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82A-89AF-4F83-B1C8-5FC6443F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8DA-E1A9-4D5B-AE81-D99AE1A0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73B-821D-4A01-AE1C-77155D0F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F97-BC4E-46EF-9BD4-445403D0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F27-F54C-4CDE-8828-4550FD0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FD3-5CD7-4931-AD0D-6FFD8F88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A48-9C3D-4887-86E2-838763AD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6D57-A4A6-4D80-BB89-63039F7283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C3AC-F898-4758-8031-3DA3BBFD78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ute l'actualité nationale  et international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461960"/>
          <a:ext cx="80773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nt puis-je obtenir de plus amples renseignements sur les sujets les plus intéressa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Ioana</cp:lastModifiedBy>
  <dcterms:modified xsi:type="dcterms:W3CDTF">2009-10-22T15:36:11Z</dcterms:modified>
  <cp:revision>23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